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C832-CCAD-4F42-BE52-C0CC1DB2B2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FEA8-615C-4665-9403-2AE76F0F4A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97C7-E997-4FDC-8E24-9E0C839C21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B68C-C66C-43EF-9D2E-AC52C05E69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F33E-5F48-436B-A9A4-F94440C976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564D-127E-45A8-80F8-9DB93790D9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4AF0-D1F2-4A74-ABA0-AF7D238621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2486-1872-4712-81F6-ABF38BA47A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6473-907A-4E45-B1A4-3C2FCB6565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40F2-B0C1-4B8D-B2F7-2CDAFECA04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CA94-A997-43F2-BE78-02D0F97103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EE06-EA1F-4C21-A8A1-E0A021AC74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01E9-0419-4600-801A-DE30CE0E28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230D-2BE9-45BB-B759-CF1EAB5C51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2B2F-7928-46E4-81C5-D086E25CBF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E482-3AC6-4A17-9177-E298EE978A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CC6E-57F1-46EF-A256-03564212F6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249-C6EB-4F00-9D7F-63DEF023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6AD-89E6-4F27-AC9C-C246BB1C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6EA-394F-426E-8DE1-0DDCD21D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EF5-A1D2-4AF3-9BA1-7E87915E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180-AC5C-4591-AD4A-189765DD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994-E29D-43D0-B12E-AE866A44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D67-2C1F-4AEB-9047-7AD2B0BE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64D-1AB4-4A2A-ADC2-5D946F8C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8B4-EE2D-4A3F-9EF4-6179EF78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A48D-6534-469E-9314-2B37E0EE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A0C-E533-40D8-9561-8F931D9C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CF0-DDDE-48EA-8B38-F33CA65C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3513-F0DB-412D-8AAD-C54E2E181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alculintegral.csaint-pierre.ep.profweb.qc.ca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082F-069F-41E1-B8A1-D79A4353F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560" y="2924280"/>
            <a:ext cx="610236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Éduquer les jeunes à une autre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71640" y="3860640"/>
            <a:ext cx="6629400" cy="19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hilippe Etcheco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Groupe Initiatives Sciences Citoy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égep de Rimou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68360" y="14842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Une autre science est possible : une science collaborative, une science ouverte, une science engagée, contre la marchandisation du sa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50920" y="549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</a:rPr>
              <a:t>Collo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6997-1D5E-4275-8DC0-5B3753E62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40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périence d’une éducation aux sciences citoyennes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692280"/>
            <a:ext cx="687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 L’information: connaître, comprendre et faire des l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79280" y="1125360"/>
            <a:ext cx="896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uivre l’actualité sur 4 thèmes : mathématiques, sciences, environnement, pseudos sciences. Abonnement à des « newsletters » de sites propos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hoisir un sujet par thème et effectuer une recherche documentaire (we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tablir des liens entre les sujets retenus et leurs enjeux sur la socié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herche documentaire sur un thème controversé (facultati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3213000"/>
            <a:ext cx="914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 Les valeurs : (objectifs généraux de S.N.dont se situer et autonomie de pensée), démocratie et esprit cri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79280" y="3789360"/>
            <a:ext cx="8498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sprit critique : limites des modèles mathématiques, les différents points de vue sur les questions d’environnement (démographie, santé…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nir compte du cours d’éthique à ven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 de notes de cours « Mathématiques et environnement 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E5BD-8D01-4B02-99C0-643BC2BD1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40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périence d’une éducation aux sciences citoyennes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0920" y="1052640"/>
            <a:ext cx="777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 La communication : communiquer et interven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95280" y="1916280"/>
            <a:ext cx="7632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nue d’un blogue individ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itiation à la rédaction d’articles sur des sujets controvers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article d’opinion pour chacun des sujets des 4 thèmes et un dossier pour la recherche documentaire, au moins 4 arti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tériel pour des groupes communautaires (facultati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BBD8-1547-4190-A0AA-13B7C71DC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guise de bilan et quelques pi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692280"/>
            <a:ext cx="687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marques géné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79280" y="1125360"/>
            <a:ext cx="896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lon les sondages, les élèves ont été très intéressé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est nécessaire de préparer les élèves à une science citoyenne, cela correspond à un besoin de société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’est d’autant plus nécessaire que l’évolution des sciences et de la société s’accélè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2997360"/>
            <a:ext cx="8604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questions soulevées sur les éléments de base d’une formation citoyen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24000" y="3429000"/>
            <a:ext cx="79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méthodes de gestion de l’information restent à préci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faut définir plus précisément des valeurs comme la démocratie, l’esprit critique, le sens de l’éthique et penser comment les intégrer dans les c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faut mieux connaître les valeurs des jeunes pour en tenir comp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méthodes de la gestion des communications restent à préci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interventions dans le milieu : parascolaires, etc, restent à préciser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1B0B-D985-4810-A0F8-DE6E40F86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guise de bilan et quelques pi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79280" y="765000"/>
            <a:ext cx="76345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élè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1413000"/>
            <a:ext cx="896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expérience a porté sur un cours dans une discipline, il est difficile d’évaluer son impact sur la formation des élè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s ont apprécié que des liens aient été établis entre ce qui les intéresse, les cours et la société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est nécessaire de tenir compte de leur cul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496F-7236-4DC1-A49B-A18280642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guise de bilan et quelques pi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549360"/>
            <a:ext cx="687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profess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79280" y="907920"/>
            <a:ext cx="896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professeurs concernés ont apprécié l’expéri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intégration d’éléments de sciences citoyennes devrait être améliorée en terme de contenus, d’approches pédagogiques et d’intégration dans les c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u perfectionnement et des ressources sont nécessai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2852640"/>
            <a:ext cx="7634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ciences de la na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50920" y="3429000"/>
            <a:ext cx="806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intégration d’éléments de formation citoyenne correspond aux objectifs généraux du programme de Sciences de la n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intégration d’éléments de formation citoyenne devrait être multidisciplin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faudrait s’interroger sur les interventions dans le milieu et le rôle des parascolaire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C850-8F64-4791-9C61-F4DBA0648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guise de bilan et quelques pi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50920" y="981000"/>
            <a:ext cx="777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pis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50920" y="1484280"/>
            <a:ext cx="864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est nécessaire de suivre les changements accélérés apportés par le développement des sciences et adapter l’enseignement en conséquence, le temps est comp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faut tenir compte  des expériences qui se font déjà comme l’ERE (Éducation Relative à l’Environnement) et échanger (rencontres, colloques, et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recherches devraient porter sur une éducation aux sciences citoyennes et permettre de proposer des pistes d’intégration dans les curriculu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7EB5-6727-419F-A7D4-C116B3F34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-1332000" y="197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21351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2135160"/>
            <a:ext cx="173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21351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2135160"/>
            <a:ext cx="173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21351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0" y="2135160"/>
            <a:ext cx="173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0" y="21351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0" y="2135160"/>
            <a:ext cx="173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-757080" y="5072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0" y="21351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0" y="2135160"/>
            <a:ext cx="173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21351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0" y="2135160"/>
            <a:ext cx="173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0" y="21351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1763640" y="2421000"/>
            <a:ext cx="173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5867280" y="17733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0" y="5300640"/>
            <a:ext cx="173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900000" y="515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632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t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468360" y="836640"/>
            <a:ext cx="7632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nitiatives Sciences Citoyen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http://www2.cegep-rimouski.qc.ca/isc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Blogues de l’expérience et blogues des élè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http://calculintegral.petchecopar.ep.profweb.qc.ca/</a:t>
            </a:r>
            <a:r>
              <a:rPr b="0" lang="fr-CA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http://calculintegral.csaint.ep.profweb.qc.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539640" y="3213000"/>
            <a:ext cx="6480360" cy="33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utiliser des technologies appropriées de traitement de l’informatio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apprendre de façon autonom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établir des liens entre la science, la technologie et l’évolution de la société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adopter des attitudes utiles au travail scientifique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éfinir son système de valeurs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250920" y="2565360"/>
            <a:ext cx="7632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objectifs généraux de Sciences de la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31F0-B0DA-46BA-A966-D7C657C05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périence d’initiation aux sciences citoyenne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égep de Rimouski 2008-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4000" y="98100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tualiser l’enseignement des mathématiques avec l’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oposer des éléments pour une éducation aux sciences citoy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50920" y="2205000"/>
            <a:ext cx="6626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léments du contexte, 1) l’évolution des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50920" y="2565360"/>
            <a:ext cx="842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e évolution des sciences de plus en plus rapide, de plus en plus complexe, des sciences  de plus en plus inter-reli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développement exponentiel de l’information et des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retombées de plus en plus importantes sur la socié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179280" y="4149720"/>
            <a:ext cx="7129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léments du contexte, 2) l’évolution de la socié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395280" y="4581360"/>
            <a:ext cx="813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ndialisation de la société, règne des lois du marché et tendance à l’effacement des É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veloppement d’un fossé entre les sciences et les citoyens, une démocratie en da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9219-58C6-4E93-8234-4D1017938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476360" y="404640"/>
            <a:ext cx="597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érience d’initiation aux sciences citoy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468360" y="1268280"/>
            <a:ext cx="8424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léments du contexte, 3) la formation citoyen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 Cégep de Rimouski, mise sur pied du Groupe Initiatives Sciences Citoyen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 niveau secondaire, en histoire, développement d’une éducation à la citoyenneté, sous le thème « vivre ensemble 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 niveau collégial, nécessité d’une éducation aux sciences citoyennes en sci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D7B1-8675-4F91-B87D-CA3858671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 quelques éléments d’une éducation aux sciences citoyennes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981000"/>
            <a:ext cx="774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 Une maîtrise de l’information: connaître, comprendre et faire des l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79280" y="1413000"/>
            <a:ext cx="8964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uivre l’actualité, suivre l’évolution des sciences, suivre leurs retombées  dans la socié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tablir des liens entre les phénomènes scientifiques et leurs enjeux sociaux, éthiques et économiques pour la société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érer les Tics et l’information: la trouver, l’évaluer, la classer, l’utili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nir compte de la culture des jeu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3933720"/>
            <a:ext cx="7634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 Une acquisition de valeurs : se situer et autonomie de pen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79280" y="4221000"/>
            <a:ext cx="89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valeurs incluses dans les objectifs généraux de Sciences de la nature (cf : Définir son système de valeur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démocratie en sciences (éducation à la citoyenneté vue au secondair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esprit critique et l’éthique en sci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nir compte des valeurs des jeunes, utilitarisme, individualisme (Enquête Ro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EBC5-E2E7-4C16-85F0-3465D5F66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1628640"/>
            <a:ext cx="777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 Une maîtrise de la communication : communiquer et interven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24000" y="2205000"/>
            <a:ext cx="7561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îtriser les outils de communication (web 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velopper une capacité à argumenter publiquement et à vulgari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velopper une capacité à intervenir dans la communau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 quelques éléments d’une éducation aux sciences citoyennes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C772-54A6-49F9-8DE8-4D59F477C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rille possible pour une éducation aux sciences citoyen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981080"/>
          <a:ext cx="7772400" cy="4534200"/>
        </p:xfrm>
        <a:graphic>
          <a:graphicData uri="http://schemas.openxmlformats.org/drawingml/2006/table">
            <a:tbl>
              <a:tblPr/>
              <a:tblGrid>
                <a:gridCol w="1222200"/>
                <a:gridCol w="2016360"/>
                <a:gridCol w="1871640"/>
                <a:gridCol w="2662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info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vale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communication et l’interven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p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ivre l’actualité et l’évolution des sci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eurs démocratiques et éth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érer la communication et les outils du web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p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érer l’information et les ressources du w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rit critique, différents points de vue sur les enje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té à utiliser les formes de communication et à vulgari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p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blir des liens entre les sciences et leurs enjeux soci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gement personnel et raisonn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enir loca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enir globalement (blogues, réseaux sociau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F639-36DA-458A-9A91-ED069BD5D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périence d’éducation aux sciences citoyennes au Cégep de Rimous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0" y="148428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Les cours de mathématiques en sciences de la nature  (1995-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539640" y="4149720"/>
            <a:ext cx="835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éthode APP et démarche de modélis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 des TIC: logiciels de calcul symbolique (Maple), Internet et ordinateurs port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olet culture avec 5% des points dans chaque c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250920" y="21337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611280" y="2708280"/>
            <a:ext cx="770580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Rapprocher les mathématiques enseignées des mathématiques utilisées en sci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ntéresser les élèves aux mathématiques et à leur rôle dans la socié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250920" y="3645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1BBD-D165-4EDB-9E47-33AF73B1F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périence d’éducation aux sciences citoyen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765000"/>
            <a:ext cx="568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 Le calcul intég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79280" y="1628640"/>
            <a:ext cx="8964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roche du calcul intégral : connaissant la variation d’un phénomène, comment dresser le modèle mathématique de ce phénomèn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environnement comme fil conducteur : dynamique des populations dans un écosystè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tude de différents types de modèles  et leurs idéologies sous jacentes : modèles de Malthus,  de Verhulst, de Voltera (prédateurs pro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nté : propagation des épidém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11970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ils condu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F169-1847-4EA8-B93F-F65EECEA0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périence d’éducation aux sciences citoyen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1052640"/>
            <a:ext cx="5688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 Le calcul intég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1557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adre pédagog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5280" y="2060640"/>
            <a:ext cx="828216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urs de session 2, coordination avec le cours de biologie (les écosystèm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férences au cours d’éthique (philosophie en session 4) sur la démographie, la santé, l’ea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r la modélisation-simulation pour les 5 laboratoires sur les différents modèles de dynamique des popul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ulture (coordination avec biologie), lectures et recherches documentaires dans une optique de mathématiques et d’environn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22:29:20Z</dcterms:created>
  <dc:creator>Etchecopar Philippe</dc:creator>
  <dc:description/>
  <dc:language>en-US</dc:language>
  <cp:lastModifiedBy>Mélissa</cp:lastModifiedBy>
  <dcterms:modified xsi:type="dcterms:W3CDTF">2011-07-29T19:59:15Z</dcterms:modified>
  <cp:revision>150</cp:revision>
  <dc:subject/>
  <dc:title>Maple et démarche algorithmique</dc:title>
</cp:coreProperties>
</file>